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3567-ABEB-49A9-B82C-3825D301B4C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9712-8344-4B97-B77A-CBD1B3D318B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F599-94DB-4059-BC5B-EBBDE0E4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2FAC-A731-45ED-8A83-AE528B3F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6EC4-106E-4A7C-8BC3-8105900E8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0600-F5A4-49A5-BA00-27EE7AEED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D4AB-4555-4A3B-A0C6-B27214C2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09B8-9905-4318-8008-9EBDE0F9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5BD0-63D6-4BAE-8C71-1B9A6620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D304-87A7-46A1-B1FC-D0D7C22A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15F5-72C1-4A8D-8881-EB8110D3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2E5B-3B3A-4021-8D72-4442B71E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38EA-FD28-4F3A-9800-1901F99C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1B6F-36AC-454C-9DC1-895E575B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7E96-6BE2-4F20-9098-DFA6C967933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asellaDiTesto 3"/>
          <p:cNvSpPr/>
          <p:nvPr/>
        </p:nvSpPr>
        <p:spPr>
          <a:xfrm>
            <a:off x="-146160" y="324000"/>
            <a:ext cx="94222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0" spc="-1" strike="noStrike">
                <a:solidFill>
                  <a:srgbClr val="ffff00"/>
                </a:solidFill>
                <a:latin typeface="LTSalamanderDbl Medium"/>
              </a:rPr>
              <a:t>Ti racconto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0" spc="-1" strike="noStrike">
                <a:solidFill>
                  <a:srgbClr val="ffff00"/>
                </a:solidFill>
                <a:latin typeface="LTSalamanderDbl Medium"/>
              </a:rPr>
              <a:t>la croce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asellaDiTesto 4"/>
          <p:cNvSpPr/>
          <p:nvPr/>
        </p:nvSpPr>
        <p:spPr>
          <a:xfrm>
            <a:off x="-676080" y="5084640"/>
            <a:ext cx="103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LTSalamanderDbl Medium"/>
              </a:rPr>
              <a:t>Lo sguardo di Gesù verso i suoi discepo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ttangolo 3"/>
          <p:cNvSpPr/>
          <p:nvPr/>
        </p:nvSpPr>
        <p:spPr>
          <a:xfrm>
            <a:off x="539640" y="404640"/>
            <a:ext cx="799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c000"/>
                </a:solidFill>
                <a:latin typeface="LTSalamanderDbl Medium"/>
              </a:rPr>
              <a:t>Gesto di carità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LTSalamanderDbl Medium"/>
              </a:rPr>
              <a:t>Penso a chi è meno fortunato di m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ttangolo 4"/>
          <p:cNvSpPr/>
          <p:nvPr/>
        </p:nvSpPr>
        <p:spPr>
          <a:xfrm>
            <a:off x="4067280" y="2492280"/>
            <a:ext cx="47498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800" spc="-1" strike="noStrike">
                <a:solidFill>
                  <a:srgbClr val="ffffff"/>
                </a:solidFill>
                <a:latin typeface="LTSalamanderDbl Medium"/>
              </a:rPr>
              <a:t>DON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800" spc="-1" strike="noStrike">
                <a:solidFill>
                  <a:srgbClr val="ffffff"/>
                </a:solidFill>
                <a:latin typeface="LTSalamanderDbl Medium"/>
              </a:rPr>
              <a:t>DELL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800" spc="-1" strike="noStrike">
                <a:solidFill>
                  <a:srgbClr val="ffffff"/>
                </a:solidFill>
                <a:latin typeface="LTSalamanderDbl Medium"/>
              </a:rPr>
              <a:t>PAST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http://www.pastificiosebastianodapuzzo.com/public/ImageDoc_33_DSC_0095.JPG"/>
          <p:cNvPicPr/>
          <p:nvPr/>
        </p:nvPicPr>
        <p:blipFill>
          <a:blip r:embed="rId1"/>
          <a:stretch/>
        </p:blipFill>
        <p:spPr>
          <a:xfrm>
            <a:off x="755640" y="3141720"/>
            <a:ext cx="37749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magine 2" descr="Lc 19 - Oggi la salvezza è entrata in questa casa2.jpg"/>
          <p:cNvPicPr/>
          <p:nvPr/>
        </p:nvPicPr>
        <p:blipFill>
          <a:blip r:embed="rId1"/>
          <a:stretch/>
        </p:blipFill>
        <p:spPr>
          <a:xfrm>
            <a:off x="0" y="-44280"/>
            <a:ext cx="4800600" cy="6902280"/>
          </a:xfrm>
          <a:prstGeom prst="rect">
            <a:avLst/>
          </a:prstGeom>
          <a:ln w="0">
            <a:noFill/>
          </a:ln>
        </p:spPr>
      </p:pic>
      <p:sp>
        <p:nvSpPr>
          <p:cNvPr id="51" name="CasellaDiTesto 5"/>
          <p:cNvSpPr/>
          <p:nvPr/>
        </p:nvSpPr>
        <p:spPr>
          <a:xfrm>
            <a:off x="4859280" y="274680"/>
            <a:ext cx="4105440" cy="88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Signore Gesù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noi sappiamo che il Tuo sguar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è sempre sguardo di amor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che i tuoi occh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non giudicano e non condanna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ma ci vogliono aiut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a riconoscere ciò che non v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nella nostra vita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Con tutti hai saputo ricerc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il “buono” che c’era nel loro cuo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Anche con Zaccheo hai fatto così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hai preferito fare il primo pass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e puntare sul suo desideri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di felicità e di gioi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Questa è la logica della CROCE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questo è il modo che anche no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vogliamo imparare a vive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Per questo siamo qui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per imparare dalla tua CROCE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asellaDiTesto 1"/>
          <p:cNvSpPr/>
          <p:nvPr/>
        </p:nvSpPr>
        <p:spPr>
          <a:xfrm>
            <a:off x="-240840" y="692280"/>
            <a:ext cx="9679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00"/>
                </a:solidFill>
                <a:latin typeface="LTSalamanderDbl Medium"/>
              </a:rPr>
              <a:t>Prima stazi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LTSalamanderDbl Medium"/>
              </a:rPr>
              <a:t>GESÚ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LTSalamanderDbl Medium"/>
              </a:rPr>
              <a:t>LAVA I PIEDI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LTSalamanderDbl Medium"/>
              </a:rPr>
              <a:t>AI SUOI DISCEPOL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magine 2" descr="Gv 13 - La lavanda dei piedi4.jpg"/>
          <p:cNvPicPr/>
          <p:nvPr/>
        </p:nvPicPr>
        <p:blipFill>
          <a:blip r:embed="rId1"/>
          <a:stretch/>
        </p:blipFill>
        <p:spPr>
          <a:xfrm>
            <a:off x="2225520" y="-41400"/>
            <a:ext cx="4867560" cy="6899400"/>
          </a:xfrm>
          <a:prstGeom prst="rect">
            <a:avLst/>
          </a:prstGeom>
          <a:ln w="0">
            <a:noFill/>
          </a:ln>
        </p:spPr>
      </p:pic>
      <p:cxnSp>
        <p:nvCxnSpPr>
          <p:cNvPr id="54" name="Connettore 2 4"/>
          <p:cNvCxnSpPr/>
          <p:nvPr/>
        </p:nvCxnSpPr>
        <p:spPr>
          <a:xfrm flipV="1">
            <a:off x="1402920" y="4723920"/>
            <a:ext cx="793080" cy="218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5" name="CasellaDiTesto 6"/>
          <p:cNvSpPr/>
          <p:nvPr/>
        </p:nvSpPr>
        <p:spPr>
          <a:xfrm>
            <a:off x="402480" y="4292640"/>
            <a:ext cx="123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esù è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n ginocchi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hina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i pied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 Pietro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Connettore 2 7"/>
          <p:cNvCxnSpPr/>
          <p:nvPr/>
        </p:nvCxnSpPr>
        <p:spPr>
          <a:xfrm flipH="1" flipV="1">
            <a:off x="5724000" y="4941720"/>
            <a:ext cx="1656720" cy="6483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7" name="CasellaDiTesto 9"/>
          <p:cNvSpPr/>
          <p:nvPr/>
        </p:nvSpPr>
        <p:spPr>
          <a:xfrm>
            <a:off x="7441920" y="5013360"/>
            <a:ext cx="1236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suo vol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i specch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nel ca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ell’acqua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Connettore 2 10"/>
          <p:cNvCxnSpPr/>
          <p:nvPr/>
        </p:nvCxnSpPr>
        <p:spPr>
          <a:xfrm flipH="1">
            <a:off x="5148000" y="1699200"/>
            <a:ext cx="2016720" cy="577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9" name="CasellaDiTesto 12"/>
          <p:cNvSpPr/>
          <p:nvPr/>
        </p:nvSpPr>
        <p:spPr>
          <a:xfrm>
            <a:off x="7128000" y="476280"/>
            <a:ext cx="19699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ietro con una m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embra allontanar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ma con l’altr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ulle sue spall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embra dire a Ges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Ho bisog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 questo tuo ge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 amo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ono un poveraccio!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Connettore 2 13"/>
          <p:cNvCxnSpPr/>
          <p:nvPr/>
        </p:nvCxnSpPr>
        <p:spPr>
          <a:xfrm flipV="1">
            <a:off x="1619280" y="1557000"/>
            <a:ext cx="1440360" cy="50400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1" name="CasellaDiTesto 15"/>
          <p:cNvSpPr/>
          <p:nvPr/>
        </p:nvSpPr>
        <p:spPr>
          <a:xfrm>
            <a:off x="110520" y="1052640"/>
            <a:ext cx="1706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pane e il v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ul quel tavo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fanno da sfo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lla scena 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i sta compiend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ono lì a d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he la rag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 questo ge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è l’amore di Ges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FINO ALLA F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CasellaDiTesto 1"/>
          <p:cNvSpPr/>
          <p:nvPr/>
        </p:nvSpPr>
        <p:spPr>
          <a:xfrm>
            <a:off x="61920" y="476280"/>
            <a:ext cx="907452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00"/>
                </a:solidFill>
                <a:latin typeface="LTSalamanderDbl Medium"/>
              </a:rPr>
              <a:t>Seconda stazi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LTSalamanderDbl Medium"/>
              </a:rPr>
              <a:t>GESÚ DON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LTSalamanderDbl Medium"/>
              </a:rPr>
              <a:t>AI DISCEPOL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LTSalamanderDbl Medium"/>
              </a:rPr>
              <a:t>IL SUO CORP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LTSalamanderDbl Medium"/>
              </a:rPr>
              <a:t> </a:t>
            </a:r>
            <a:r>
              <a:rPr b="1" lang="it-IT" sz="8000" spc="-1" strike="noStrike">
                <a:solidFill>
                  <a:srgbClr val="ffffff"/>
                </a:solidFill>
                <a:latin typeface="LTSalamanderDbl Medium"/>
              </a:rPr>
              <a:t>E IL SUO SANGU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magine 4" descr="Mt 26 - L'ultima cena1.jpg"/>
          <p:cNvPicPr/>
          <p:nvPr/>
        </p:nvPicPr>
        <p:blipFill>
          <a:blip r:embed="rId1"/>
          <a:stretch/>
        </p:blipFill>
        <p:spPr>
          <a:xfrm>
            <a:off x="971640" y="1106640"/>
            <a:ext cx="6729480" cy="4626000"/>
          </a:xfrm>
          <a:prstGeom prst="rect">
            <a:avLst/>
          </a:prstGeom>
          <a:ln w="0">
            <a:noFill/>
          </a:ln>
        </p:spPr>
      </p:pic>
      <p:cxnSp>
        <p:nvCxnSpPr>
          <p:cNvPr id="64" name="Connettore 2 5"/>
          <p:cNvCxnSpPr/>
          <p:nvPr/>
        </p:nvCxnSpPr>
        <p:spPr>
          <a:xfrm flipV="1">
            <a:off x="2340000" y="5373000"/>
            <a:ext cx="1728000" cy="577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5" name="CasellaDiTesto 6"/>
          <p:cNvSpPr/>
          <p:nvPr/>
        </p:nvSpPr>
        <p:spPr>
          <a:xfrm>
            <a:off x="539640" y="5950080"/>
            <a:ext cx="34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nche qui  il volto di Gesù è rifles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nel rosso del vino del cali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è il volto dell’amore donato per tutti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Connettore 2 7"/>
          <p:cNvCxnSpPr/>
          <p:nvPr/>
        </p:nvCxnSpPr>
        <p:spPr>
          <a:xfrm>
            <a:off x="1619280" y="907920"/>
            <a:ext cx="1658160" cy="11534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7" name="CasellaDiTesto 10"/>
          <p:cNvSpPr/>
          <p:nvPr/>
        </p:nvSpPr>
        <p:spPr>
          <a:xfrm>
            <a:off x="539640" y="85680"/>
            <a:ext cx="525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 discepoli mostrano atteggiamenti divers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’è chi  ha capito che stava succedendo qualcosa di gran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 c’è chi sembra indifferente, chi sembra lontano da tutto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Connettore 2 11"/>
          <p:cNvCxnSpPr/>
          <p:nvPr/>
        </p:nvCxnSpPr>
        <p:spPr>
          <a:xfrm flipH="1" flipV="1">
            <a:off x="7019640" y="1915920"/>
            <a:ext cx="1008720" cy="218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9" name="CasellaDiTesto 13"/>
          <p:cNvSpPr/>
          <p:nvPr/>
        </p:nvSpPr>
        <p:spPr>
          <a:xfrm>
            <a:off x="7612560" y="1558800"/>
            <a:ext cx="14608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 po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’è Giu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he 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uscend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suo cu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ha già tradi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È la pa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iù bu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el quad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d era nott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ce il Vange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Qua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ti allontan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a Ges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ei nel bu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ella nott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Connettore 2 14"/>
          <p:cNvCxnSpPr/>
          <p:nvPr/>
        </p:nvCxnSpPr>
        <p:spPr>
          <a:xfrm flipV="1">
            <a:off x="5507640" y="4723560"/>
            <a:ext cx="216360" cy="108180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1" name="CasellaDiTesto 19"/>
          <p:cNvSpPr/>
          <p:nvPr/>
        </p:nvSpPr>
        <p:spPr>
          <a:xfrm>
            <a:off x="4788000" y="5838840"/>
            <a:ext cx="41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’apostolo Giovanni mette la sua m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opra il pane che Gesù gli sta porgend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è colui che accoglie con stupore il dono di Dio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Connettore 2 23"/>
          <p:cNvCxnSpPr/>
          <p:nvPr/>
        </p:nvCxnSpPr>
        <p:spPr>
          <a:xfrm flipH="1">
            <a:off x="5219280" y="981000"/>
            <a:ext cx="1729440" cy="194400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3" name="CasellaDiTesto 25"/>
          <p:cNvSpPr/>
          <p:nvPr/>
        </p:nvSpPr>
        <p:spPr>
          <a:xfrm>
            <a:off x="6012000" y="103320"/>
            <a:ext cx="302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pane spezzato forma la pri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ettera greca del nome di Cristo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 c’è l’ombra della croc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CasellaDiTesto 1"/>
          <p:cNvSpPr/>
          <p:nvPr/>
        </p:nvSpPr>
        <p:spPr>
          <a:xfrm>
            <a:off x="-327960" y="531720"/>
            <a:ext cx="985068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00"/>
                </a:solidFill>
                <a:latin typeface="LTSalamanderDbl Medium"/>
              </a:rPr>
              <a:t>Terza stazi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500" spc="-1" strike="noStrike">
                <a:solidFill>
                  <a:srgbClr val="ffffff"/>
                </a:solidFill>
                <a:latin typeface="LTSalamanderDbl Medium"/>
              </a:rPr>
              <a:t>GESÚ PREGA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500" spc="-1" strike="noStrike">
                <a:solidFill>
                  <a:srgbClr val="ffffff"/>
                </a:solidFill>
                <a:latin typeface="LTSalamanderDbl Medium"/>
              </a:rPr>
              <a:t>NELL’ORTO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500" spc="-1" strike="noStrike">
                <a:solidFill>
                  <a:srgbClr val="ffffff"/>
                </a:solidFill>
                <a:latin typeface="LTSalamanderDbl Medium"/>
              </a:rPr>
              <a:t>DEGLI ULIVI MENTRE 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500" spc="-1" strike="noStrike">
                <a:solidFill>
                  <a:srgbClr val="ffffff"/>
                </a:solidFill>
                <a:latin typeface="LTSalamanderDbl Medium"/>
              </a:rPr>
              <a:t>I DISCEPOLI DORMONO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Immagine 1" descr="Mt 26 - Al Getsemani3.jpg"/>
          <p:cNvPicPr/>
          <p:nvPr/>
        </p:nvPicPr>
        <p:blipFill>
          <a:blip r:embed="rId1"/>
          <a:stretch/>
        </p:blipFill>
        <p:spPr>
          <a:xfrm>
            <a:off x="2054160" y="0"/>
            <a:ext cx="5035680" cy="6858000"/>
          </a:xfrm>
          <a:prstGeom prst="rect">
            <a:avLst/>
          </a:prstGeom>
          <a:ln w="0">
            <a:noFill/>
          </a:ln>
        </p:spPr>
      </p:pic>
      <p:cxnSp>
        <p:nvCxnSpPr>
          <p:cNvPr id="76" name="Connettore 2 2"/>
          <p:cNvCxnSpPr/>
          <p:nvPr/>
        </p:nvCxnSpPr>
        <p:spPr>
          <a:xfrm>
            <a:off x="1619280" y="2637000"/>
            <a:ext cx="1658160" cy="5763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7" name="CasellaDiTesto 5"/>
          <p:cNvSpPr/>
          <p:nvPr/>
        </p:nvSpPr>
        <p:spPr>
          <a:xfrm>
            <a:off x="113760" y="1052640"/>
            <a:ext cx="17503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esù che pre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draiato  sul leg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egli ul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è la figura centr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 questo quad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a sua pregh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è inten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gli sente su di 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tutto il pecc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egli uomi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 ha pa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Connettore 2 6"/>
          <p:cNvCxnSpPr/>
          <p:nvPr/>
        </p:nvCxnSpPr>
        <p:spPr>
          <a:xfrm flipH="1">
            <a:off x="6587280" y="3933720"/>
            <a:ext cx="1080360" cy="4327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9" name="CasellaDiTesto 8"/>
          <p:cNvSpPr/>
          <p:nvPr/>
        </p:nvSpPr>
        <p:spPr>
          <a:xfrm>
            <a:off x="7050240" y="2924280"/>
            <a:ext cx="20170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 tre discepol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ietro, Giaco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 Giovan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ono immer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n un son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rofond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non riescono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vegliare con Ges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esù li cerc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erché ha bisog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 sent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calore e la vicina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egli amic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ma lo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non si accorgono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Connettore 2 9"/>
          <p:cNvCxnSpPr/>
          <p:nvPr/>
        </p:nvCxnSpPr>
        <p:spPr>
          <a:xfrm flipH="1">
            <a:off x="5148000" y="1844640"/>
            <a:ext cx="2232720" cy="17294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1" name="CasellaDiTesto 12"/>
          <p:cNvSpPr/>
          <p:nvPr/>
        </p:nvSpPr>
        <p:spPr>
          <a:xfrm>
            <a:off x="7135200" y="112680"/>
            <a:ext cx="1980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’è una DISTA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tra Gesù e i discepol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esù sperime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ià in ques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rimi pas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ella sua Pass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a solitud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 l’abbando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egli apostoli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asellaDiTesto 3"/>
          <p:cNvSpPr/>
          <p:nvPr/>
        </p:nvSpPr>
        <p:spPr>
          <a:xfrm>
            <a:off x="-150840" y="404640"/>
            <a:ext cx="705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ndara"/>
              </a:rPr>
              <a:t>Oggi, Signore abbiamo capito qualcosa di più del tuo amo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Immagine 4" descr="2.jpg"/>
          <p:cNvPicPr/>
          <p:nvPr/>
        </p:nvPicPr>
        <p:blipFill>
          <a:blip r:embed="rId1"/>
          <a:stretch/>
        </p:blipFill>
        <p:spPr>
          <a:xfrm>
            <a:off x="444600" y="907920"/>
            <a:ext cx="1463400" cy="1717920"/>
          </a:xfrm>
          <a:prstGeom prst="rect">
            <a:avLst/>
          </a:prstGeom>
          <a:ln w="0">
            <a:noFill/>
          </a:ln>
        </p:spPr>
      </p:pic>
      <p:sp>
        <p:nvSpPr>
          <p:cNvPr id="84" name="CasellaDiTesto 5"/>
          <p:cNvSpPr/>
          <p:nvPr/>
        </p:nvSpPr>
        <p:spPr>
          <a:xfrm>
            <a:off x="1979640" y="981000"/>
            <a:ext cx="266364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È un amore che arriva fin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a donare la propria vita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proprio come dice l’evangelista Giovann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nel Vangelo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“… </a:t>
            </a: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fino alla fine”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magine 6" descr="1.jpg"/>
          <p:cNvPicPr/>
          <p:nvPr/>
        </p:nvPicPr>
        <p:blipFill>
          <a:blip r:embed="rId2"/>
          <a:stretch/>
        </p:blipFill>
        <p:spPr>
          <a:xfrm>
            <a:off x="7164360" y="1603440"/>
            <a:ext cx="1638360" cy="1538280"/>
          </a:xfrm>
          <a:prstGeom prst="rect">
            <a:avLst/>
          </a:prstGeom>
          <a:ln w="0">
            <a:noFill/>
          </a:ln>
        </p:spPr>
      </p:pic>
      <p:sp>
        <p:nvSpPr>
          <p:cNvPr id="86" name="CasellaDiTesto 7"/>
          <p:cNvSpPr/>
          <p:nvPr/>
        </p:nvSpPr>
        <p:spPr>
          <a:xfrm>
            <a:off x="4932360" y="1341360"/>
            <a:ext cx="216072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Donaci lo stupo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di Pietr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che si accorge subi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di non meritar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questo amore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ma sa di aver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tanto bisogno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mmagine 8" descr="4.jpg"/>
          <p:cNvPicPr/>
          <p:nvPr/>
        </p:nvPicPr>
        <p:blipFill>
          <a:blip r:embed="rId3"/>
          <a:stretch/>
        </p:blipFill>
        <p:spPr>
          <a:xfrm>
            <a:off x="7451640" y="3860640"/>
            <a:ext cx="1317600" cy="1944720"/>
          </a:xfrm>
          <a:prstGeom prst="rect">
            <a:avLst/>
          </a:prstGeom>
          <a:ln w="0">
            <a:noFill/>
          </a:ln>
        </p:spPr>
      </p:pic>
      <p:sp>
        <p:nvSpPr>
          <p:cNvPr id="88" name="CasellaDiTesto 9"/>
          <p:cNvSpPr/>
          <p:nvPr/>
        </p:nvSpPr>
        <p:spPr>
          <a:xfrm>
            <a:off x="4932360" y="3716280"/>
            <a:ext cx="237636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Donaci l’amor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di Giovann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che apre il cuo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per accoglie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Il dono dell’Eucarest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e comprende subi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che si tratt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di un dono immenso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Immagine 10" descr="5.jpg"/>
          <p:cNvPicPr/>
          <p:nvPr/>
        </p:nvPicPr>
        <p:blipFill>
          <a:blip r:embed="rId4"/>
          <a:stretch/>
        </p:blipFill>
        <p:spPr>
          <a:xfrm>
            <a:off x="395280" y="3429000"/>
            <a:ext cx="1916280" cy="1741320"/>
          </a:xfrm>
          <a:prstGeom prst="rect">
            <a:avLst/>
          </a:prstGeom>
          <a:ln w="0">
            <a:noFill/>
          </a:ln>
        </p:spPr>
      </p:pic>
      <p:sp>
        <p:nvSpPr>
          <p:cNvPr id="90" name="CasellaDiTesto 11"/>
          <p:cNvSpPr/>
          <p:nvPr/>
        </p:nvSpPr>
        <p:spPr>
          <a:xfrm>
            <a:off x="2340000" y="3429000"/>
            <a:ext cx="208764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Aiutaci , Signore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a non  farci vincer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dal sonno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della pigriz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e della strad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più facile e comod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sellaDiTesto 12"/>
          <p:cNvSpPr/>
          <p:nvPr/>
        </p:nvSpPr>
        <p:spPr>
          <a:xfrm>
            <a:off x="153360" y="5373720"/>
            <a:ext cx="498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andara"/>
              </a:rPr>
              <a:t>I tuoi gesti e il tuo sgua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andara"/>
              </a:rPr>
              <a:t>pieno d’a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andara"/>
              </a:rPr>
              <a:t>rapiscano sempre il nostro cuo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20:36:32Z</dcterms:created>
  <dc:creator> </dc:creator>
  <dc:description/>
  <dc:language>en-US</dc:language>
  <cp:lastModifiedBy>Qumran2</cp:lastModifiedBy>
  <dcterms:modified xsi:type="dcterms:W3CDTF">2011-04-11T14:40:37Z</dcterms:modified>
  <cp:revision>28</cp:revision>
  <dc:subject/>
  <dc:title>Diapositiva 1</dc:title>
</cp:coreProperties>
</file>